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B561-A3F1-45D8-B825-88176BD03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C018-6B63-43E2-8135-9ECF77F3CB4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9446-0256-459B-94D9-8155F85D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F311-9FFF-4FFB-B511-C1EF8FC0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607F-743B-4E59-ADF3-9C3849C2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B8FC-F3CF-4B7B-81C2-BD1BC5B2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9A8D-4393-4FC1-ADD3-9A5D73DD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6A22-18AF-4746-BBA6-FBD11DEE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0D32-12C8-466C-B481-28945FFE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BF3B-0BA7-46BE-A2D5-8FAE0DB1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F7D2-D971-43F1-95CA-74FE7B11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3918-4050-4E44-9F5C-E6299B8B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89D1-281B-4F75-9D14-8761C293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D77E-BA9B-4F40-926D-037E667A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4EFE-709A-42DD-AE00-3122AB55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615B-C502-45FE-BC89-6F8E2AE9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C2A3-A103-4AF9-AEAF-BB254FBC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4547-C7F2-4BC0-B748-7F1A5668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60CC-DFE1-45C9-B5E1-C649BFA0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CD0D-7CA4-4B51-8AFD-D9698EFF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CD81-BCAF-47E7-BDF1-DC87CE43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FDAA-4216-4B54-A677-AA64C0EE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A45E-8CA6-4C4B-BF0D-480A506F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BDE0-F019-43C3-8117-DB16CB1F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4B07-3812-4F31-8364-1BDA5C9C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5B4F-AE86-4AF7-A945-164C9257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7D48-39A3-4FE9-A976-A1945710A08F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F0C4-5C01-4153-AEA3-763D2D44530C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mericancivilwar.com/civilwar/spproduct/c001/1570030375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2.scholastic.com/browse/media.jsp?id=1263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sonofthesouth.net/slavery/photographs/hands-slave.htm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sonofthesouth.net/slavery/african-slave-ship.htm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americancivilwar.com/amazon/Store/black_slaveowne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219320"/>
            <a:ext cx="6019920" cy="4514760"/>
          </a:xfrm>
          <a:prstGeom prst="rect">
            <a:avLst/>
          </a:prstGeom>
          <a:ln w="0">
            <a:noFill/>
          </a:ln>
        </p:spPr>
      </p:pic>
      <p:pic>
        <p:nvPicPr>
          <p:cNvPr id="90" name="Title 1" descr=""/>
          <p:cNvPicPr/>
          <p:nvPr/>
        </p:nvPicPr>
        <p:blipFill>
          <a:blip r:embed="rId3"/>
          <a:stretch/>
        </p:blipFill>
        <p:spPr>
          <a:xfrm>
            <a:off x="450720" y="1365120"/>
            <a:ext cx="7785360" cy="1695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438280" y="350496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y Cameron Hartle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r an example read Henry’s Freedom Box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4" name="Picture 2" descr="Hnery's Freedom Box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62320" y="2362320"/>
            <a:ext cx="4343400" cy="4128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ok at this pictu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7" name="Picture 2" descr="Hands of a Slav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0400" y="2362320"/>
            <a:ext cx="5640480" cy="4219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Plantation Slaves"/>
          <p:cNvPicPr/>
          <p:nvPr/>
        </p:nvPicPr>
        <p:blipFill>
          <a:blip r:embed="rId1"/>
          <a:stretch/>
        </p:blipFill>
        <p:spPr>
          <a:xfrm>
            <a:off x="685800" y="304920"/>
            <a:ext cx="3505320" cy="3465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African Slave Shi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1523880"/>
            <a:ext cx="2825640" cy="4030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http://www.negroartist.com/Slave%20Sales%20and%20Auctions%20African%20Coast%20and%20the%20Americas/thumbnails/Advertisement%20for%20Slave%20Sale,%20Charleston,%20South%20Carolina,%20late%2018th%20cent_jpg.jpg"/>
          <p:cNvPicPr/>
          <p:nvPr/>
        </p:nvPicPr>
        <p:blipFill>
          <a:blip r:embed="rId4"/>
          <a:stretch/>
        </p:blipFill>
        <p:spPr>
          <a:xfrm>
            <a:off x="1143000" y="4191120"/>
            <a:ext cx="203508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laves suffered and starved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didn’t deserve that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didn’t deserve to die and suffer from sickness because they got no food and no water and all they did was WORK,WORK AND WORK!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2" descr="Santiago"/>
          <p:cNvPicPr/>
          <p:nvPr/>
        </p:nvPicPr>
        <p:blipFill>
          <a:blip r:embed="rId1"/>
          <a:stretch/>
        </p:blipFill>
        <p:spPr>
          <a:xfrm>
            <a:off x="152280" y="380880"/>
            <a:ext cx="3330720" cy="4983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st slaves refused to e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ften slave owners would steal from one anoth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23:06:40Z</dcterms:created>
  <dc:creator>BPS</dc:creator>
  <dc:description/>
  <dc:language>en-US</dc:language>
  <cp:lastModifiedBy>BPS</cp:lastModifiedBy>
  <dcterms:modified xsi:type="dcterms:W3CDTF">2010-02-20T00:54:55Z</dcterms:modified>
  <cp:revision>12</cp:revision>
  <dc:subject/>
  <dc:title>Slavery</dc:title>
</cp:coreProperties>
</file>